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42B-7766-436A-A74A-B7BE40B3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7F3-2B75-4D26-932A-82B0B29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182-30FA-43A0-8551-19A32E2C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C08-E956-4D86-AAD7-2948CCAF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985-9680-44FF-AE6C-AB5117F2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48F-1635-48C9-BE24-BBA993EB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77F4-84A2-4D9E-9EDA-4AEFAD6F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F36-1C12-4ADE-BB3B-EE0910B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2811-056E-4F7E-B092-54425AA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397E-1B7D-4B61-85F9-2918BF8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0533-1EA1-4154-9C6F-71CBCA5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883-3232-44F7-9A9E-7DEADD54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FF6-D7DF-47DF-90B9-7C5FCC17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28CC-3AE7-47B3-A9E1-05A2B077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CE8F-0DA3-45C1-914B-48857128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AD7-40E8-454B-B7B8-769CEEF3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DD44-F943-4AC4-97B1-A21E1704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9899-EAD2-4D16-96B7-D5547B9C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FF3D-9255-480B-BA8B-BDCE0C5C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DA9D-94C2-4D12-935A-75C7F32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EF3D-C33B-4D50-9427-2DD08ED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344F-8876-4211-89AE-CC3C448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48E-B131-417F-8D28-D681C57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A6C1-1214-4DD4-A6BB-734A1753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A823-6087-4507-99A1-13CCC65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B384-CFD8-4135-B014-79CF36C9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766C-B838-4539-A71A-C3C0C60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DB55-9EB5-4110-9882-EEA4DA14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4011-1A7F-4874-B74B-2A636B3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0B94-CCC4-412B-A17C-DF327E83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299B-C5EB-45F1-87A6-FB454E28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398EE-5692-4C5C-8E87-77849DE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C4F1-08CC-46E5-AE6F-B7E3A45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E48-D737-49D7-ABD7-39C95CE4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15CD-A8A9-4FE9-B841-4A643380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3393-2FDC-4D08-9502-198DB18C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CD893-5411-4181-80C0-4E1080D1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54B3-04B5-4738-AC9C-F3960479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FFD8-B76E-4577-9306-4B53CC8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B701-67B1-4D5F-ACCB-BFAFA2F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A19B-1D58-4F7C-A533-EBB5A1F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0A8B-ADA9-4A0F-BCF0-DD4F678B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35757-689F-4CFC-9D7D-42C675CC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B3E-C15F-46AD-9B79-FEAB1DFB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632-399E-4E52-BF74-2406B1C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F1F-C398-43C3-80F6-14DA036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EB5-28CB-4866-92F1-9C75518E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4BA-A628-4D9F-B29B-A5BED8F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F785-A8D2-4876-80FD-207B73CCA0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EDFE-3BCF-483E-A148-93A187C490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5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93E-2D96-474A-88F8-EB9B054B0E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9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6D2-7EC0-4E84-9757-1BFEF259E9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homeinterior.com/wp-content/uploads/2011/11/purple-and-black-bedroom-decorate-ideas-gohomeinterior.com_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Mi mans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: Julia L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garaj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od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masi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ó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muy grande y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resion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09680" y="2941560"/>
            <a:ext cx="5410440" cy="3598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cocina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 grande y moder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4073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un comed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bello y nuev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819520" y="2905200"/>
            <a:ext cx="3962160" cy="3952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sala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ncredible y impresionan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Cute Purple Sofa For Living room"/>
          <p:cNvPicPr/>
          <p:nvPr/>
        </p:nvPicPr>
        <p:blipFill>
          <a:blip r:embed="rId1"/>
          <a:stretch/>
        </p:blipFill>
        <p:spPr>
          <a:xfrm>
            <a:off x="2286000" y="342900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cuart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934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, fabuloso, y gran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purple and black bedroom decorate ideas - gohomeinterior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498760"/>
            <a:ext cx="5029200" cy="402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b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no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stupendo y mod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09680" y="3382920"/>
            <a:ext cx="4876920" cy="3475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iscina cubiert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grande y lujo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05120" y="307656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 un jard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í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boni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Modern Garden Modern Garden"/>
          <p:cNvPicPr/>
          <p:nvPr/>
        </p:nvPicPr>
        <p:blipFill>
          <a:blip r:embed="rId1"/>
          <a:stretch/>
        </p:blipFill>
        <p:spPr>
          <a:xfrm>
            <a:off x="3124080" y="207648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3:58Z</dcterms:created>
  <dc:creator>landerjul</dc:creator>
  <dc:description/>
  <dc:language>en-US</dc:language>
  <cp:lastModifiedBy>landerjul</cp:lastModifiedBy>
  <dcterms:modified xsi:type="dcterms:W3CDTF">2012-04-11T14:00:27Z</dcterms:modified>
  <cp:revision>4</cp:revision>
  <dc:subject/>
  <dc:title>Mi mansión</dc:title>
</cp:coreProperties>
</file>